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B37C8-B281-491F-A265-9A7AC093C33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37E89-2370-4F90-8EC5-E43A6E1F982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7C101-D2A6-4673-9EEB-FC187A6DA73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A3F61-C841-4F42-9D0F-48584345AC5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BD96A-308B-4364-BD90-445B1D2C683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29587-E381-436E-98B7-86E1EAE0DA6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65D9F-E3D2-46C0-BE70-92B17639AEB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6C3B-3630-4D45-9A8A-E14AD7C8B96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6B29A-61BD-48D6-9F96-C72232E5D65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AC2A5-12E6-4C7F-9DA3-5BE243EA588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5CC7-17BE-49ED-BC6B-1D08B691710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D408-3902-4989-8A23-C4B71D8062A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FA3B9-0D3A-44E2-925D-ECEFC7C2570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4748-C841-40F7-85B2-DC245AA05B2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A0392-7E55-4120-B631-5D2B37ECD0B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84347-32ED-49BF-A359-2E19214847D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C522-BA72-4AD8-AEEA-ECEC58C0B8F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3A76-FDC1-4237-ADE0-73C3FD3F3BC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F2C2-B35A-49D3-826E-6962B01BB00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07BE9-C55C-4454-9B2F-CEC6EF056EF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54BDD-82F5-4A9E-BD1C-3C4474D56AE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82738-A5C5-4BDF-BAAA-D203D1702D2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EA46B-E75B-421F-B6DD-855A11ED04E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BCBF-A715-41E0-B61E-34B8E310496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362FD-9F8E-409E-A2DC-F5FDFDD45EF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7151F-83CE-4BB0-81CD-ACD610713D6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0EE04-41B8-465D-9443-C1518348D65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C6A5-AA91-4019-911D-1201A27114B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A88C9-A224-4AA9-8795-46159AB4C9C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5E10E-CA55-4C84-A96E-5116A78BB0D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339-64C2-46F5-9815-ECEDEB2E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719-0C9D-4371-9B14-356890D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AEF-FD65-43C6-9CB1-4F37A2EC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79C-F245-4093-84FC-76E49DB7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F06-3E0C-42C5-909C-0018D0CB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C8A-EF2B-4CC9-99C8-21C7C71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6C-3494-4EF1-BDA8-6F6A21D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C1C-CDB4-4FC0-90EE-A56C703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42F-6000-4883-B25A-5F2A92CB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985-7100-4686-9D0A-9FB77BD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8C2-40B5-4A8B-ADCA-2C8500F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CEF-4B7A-440F-B204-DB5A33F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B34049-3D78-4629-86A0-B3AFEA34776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osch.de/" TargetMode="External"/><Relationship Id="rId2" Type="http://schemas.openxmlformats.org/officeDocument/2006/relationships/hyperlink" Target="http://www.wikipedia.org/wiki/Rekuperationsbremse" TargetMode="External"/><Relationship Id="rId3" Type="http://schemas.openxmlformats.org/officeDocument/2006/relationships/hyperlink" Target="http://www.varta.de/" TargetMode="External"/><Relationship Id="rId4" Type="http://schemas.openxmlformats.org/officeDocument/2006/relationships/hyperlink" Target="http://www.wikipedia.org/wiki/Bleiakkumula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                                                    Datum: 06.05.2011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Bremsenergierückgewinnung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79640"/>
            <a:ext cx="10080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Zwei Konzep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 konventionellen Ver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rennungsmotor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gescho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Ladezustand der Batt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rd überwacht und gg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la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2.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m Hybridsystem.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zurück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won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kann in ein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Zwischenspeicher bzw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Akku transferiert wer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Datum: 06.05.2011                                            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Vorteile der Rekup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51040"/>
            <a:ext cx="9070920" cy="7068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Geringerer Kraftstoffverbrauch(3%), weniger </a:t>
            </a:r>
            <a:r>
              <a:rPr b="0" lang="en-US" sz="2600" spc="-1" strike="noStrike">
                <a:solidFill>
                  <a:srgbClr val="19630d"/>
                </a:solidFill>
                <a:latin typeface="Times New Roman"/>
              </a:rPr>
              <a:t>CO</a:t>
            </a: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ehr Antriebskraft beim Beschleuni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otorbremsfunktion, dadurch weniger Verschleiß v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Getriebe; weniger Verschleiß der Bremsbelä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  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ie viel Kraftstoff benötigt der Gener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7280" y="900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soll der Kraftstoffverbrauch auf 100km errechnet werden, der durch den Generator entste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g: U = 12V ; I = 65A; η = 0,9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s:  W in kWh /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 in kW </a:t>
            </a: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· 1h = Arbeit in 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Hinweis: 1l / 100km ≙ 10kWh/ 100k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20720" y="5219640"/>
          <a:ext cx="899964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19640"/>
                    <a:ext cx="8999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907092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Lösung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89564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351W/ 0,9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501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 · 1 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1,501kWh = 0,1501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80000" y="2518920"/>
            <a:ext cx="4067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Schlusssatz: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Generator wird auf einer Strecke von 100km ca. </a:t>
            </a: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150ml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mehr verbraucht, unter Vernachlässigung der          Reibungsverlust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0320"/>
            <a:ext cx="907092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arum verbraucht ein Fahrzeug ohn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ohne Rekuperation mehr?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18920" y="1800000"/>
            <a:ext cx="684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dauerhaften Antrieb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s Generators muss der Motor d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derstand (das Magnetfeld) überwin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und gibt damit einen Te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seiner Leistung ab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ies hat einen höheren Kraftstoffverbrauch zur Fol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Der 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er Widerstand ist das Resultat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verschiedenen Verlu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Reibungsverluste( Kollektor, Schleifri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icklungsverluste( Wirbelstromverlu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agnetisierungsverluste( entstehende Wärme durch ständiges Ummagnetisier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-179280" y="-179280"/>
            <a:ext cx="10439280" cy="79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VARTA_FINALRENDER_GERMAN_01.wmv" descr=""/>
          <p:cNvPicPr/>
          <p:nvPr/>
        </p:nvPicPr>
        <p:blipFill>
          <a:blip r:embed="rId1"/>
          <a:stretch/>
        </p:blipFill>
        <p:spPr>
          <a:xfrm>
            <a:off x="0" y="17640"/>
            <a:ext cx="10080720" cy="757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Datum: 06.05.2011                                                  13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Bestandteile eines Rekuperations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90200"/>
            <a:ext cx="9720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otor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otorsteuergerät mit integrierter Generatorregelung 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-Gaspedal mit Schuberken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Batterie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ensor mit integriertem Steuergerät und e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eziellen AGM-Batte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Multifunktionsregler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Generator mit Anbindung zum Can-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1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Vernetzung de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692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r Datentransfer bei der Rekuperation verläuft mit d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-BUS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 bedeutet Controller Area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besteht aus zwei Datenleitungen(CAN-High; CAN-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Funktioniert nach dem Master-Slave Prinz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werden weniger Kabelstränge und Sensoren benötig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AN-Daten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380000" cy="4679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60000" y="6672240"/>
            <a:ext cx="38163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Quelle: kfz-te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6520"/>
            <a:ext cx="907092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Die Emissionen                              6. Zwei Konzept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Ein Problem                                    7. Vorteile der Reku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Ein Lösungsansatz?                       8. Wie viel Kraftstoff benötigt 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Idee                                           9. Lö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 Rekuperation beim Kfz                  10. Warum verbraucht ein Fahrze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Rekuperation meh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1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as Batterie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ährend der Fahrt laufende Kontrolle der Batteri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annung und Ladeaktivitä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 Bedarf erhöht das System d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Leerlaufdrehzahl geringfügig um die Leis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s Ladegenerators zu erhö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In extremen Fällen werden kurzzeitig beso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verbrauchsintensive Komponenten deaktiv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Komfort leidet darunter n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199280" y="2879640"/>
            <a:ext cx="25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Datum: 06.05.2011                                                   1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er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Batteriesensor/ Steuergerä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51600" y="2600280"/>
            <a:ext cx="4425840" cy="332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ird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Minuspol befesti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Permanente Bewertung des aktuellen Ladezust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nalysiert vollgende Wer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pannung, -strom und -temperat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überprüft auch den Ruhe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teuergerät integr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Schaltplan des B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Batterie mit AGM-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800360"/>
            <a:ext cx="928692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GM bedeutet Absorbent Glass 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lekrolyt ist in einem Vlies aus Glasfasern gebu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öhere Zyklenfestigkeit im Vergleich zu traditionellen Batter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Verlust des aktiven Materials wird so weit w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öglich reduz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79640" y="3959280"/>
            <a:ext cx="828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0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Intelligente Generatorregelung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Verzöger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Verzögerung regelt der Generator auf Befehl des Motor-Steuergeräts seine Ladespannung auf 14 V wie bei einem herkömmlichen Generator, um der Motor-Bremswirkung Vorrang zu geb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Be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Beschleunig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Beschleunigung regelt der Generator auf Befehl des Motor-Steuergeräts seine Ladespannung auf einem niedrigeren Wert, also 13,2 V, um das Widerstandsmoment am Motor zu verringern und den Kraftstoffverbrauch zu senk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Ent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Stabilisierter 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stabilisierter Drehzahl regelt der Generator auf Befehl des Motor-Steuergeräts seine Ladespannung auf einen Zwischenwert, also 13,5 V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724360" y="16794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Die IGR-Funktion is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oftware, in der DME/D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tegrie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 der System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ind die beteilig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Komponenten dargestel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9640" y="3125880"/>
            <a:ext cx="5040360" cy="335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11360" y="18511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400" spc="-1" strike="noStrike">
                <a:solidFill>
                  <a:srgbClr val="19630d"/>
                </a:solidFill>
                <a:latin typeface="Arial"/>
                <a:ea typeface="MS Gothic"/>
              </a:rPr>
              <a:t>Bit seriell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348000" y="3573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MS Gothic"/>
              </a:rPr>
              <a:t>Ladezustand der Bat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3130560" y="2418840"/>
            <a:ext cx="866880" cy="93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65680" y="3556080"/>
          <a:ext cx="3044880" cy="3043080"/>
        </p:xfrm>
        <a:graphic>
          <a:graphicData uri="http://schemas.openxmlformats.org/drawingml/2006/table">
            <a:tbl>
              <a:tblPr/>
              <a:tblGrid>
                <a:gridCol w="792360"/>
                <a:gridCol w="2252520"/>
              </a:tblGrid>
              <a:tr h="3808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RKLÄ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ene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otorsteuerung (DME/D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telligenter Batteriesensor I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Fahrzeugbatt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Verbraucher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R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nergie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B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formations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1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</a:t>
            </a:r>
            <a:r>
              <a:rPr b="1" lang="de-DE" sz="3200" spc="-1" strike="noStrike" u="sng">
                <a:solidFill>
                  <a:srgbClr val="ffffff"/>
                </a:solidFill>
                <a:uFillTx/>
                <a:latin typeface="Century Gothic"/>
              </a:rPr>
              <a:t>IGR Übersich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2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Laderegelu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0360" y="1800000"/>
            <a:ext cx="867564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Bei Fahrzeugen ohne Rekuperation soll die Ladespan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konstant sein, denn der Bleiakkumulator verkraftet k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großen Ladespannungsschwankung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ie Ausgangsspannung ist stark drehzahl,- und last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abhängi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Ein Laderegler steuert über die Erregerspannung den Strom und damit die magnetische Feldstärke so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ass die Ladespannung konstant 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3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Multifunktionsregl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956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er Regler steuert 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regerst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besitzt keine Erregerdioden meh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 wird vom Steuerger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mit Impulsen angetakt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as Tastverhältnis ist ein Maß für den Auslastungs-grad des Generato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898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301320"/>
            <a:ext cx="9071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4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Lückentext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460520"/>
            <a:ext cx="907092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regenerative Bremsen, auch _____ genannt, ist ein rein ______ System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welches in der Lage ist den Kraftstoffverbrauch um ca. __% zu senk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besteht aus einem _______, einer intelligenten Generatorregel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iner  speziellen 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_______ kann den Ladezustand der Batterie analytisch ermitteln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über das______ System mit dem Motormanagement vernetz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raufhin kann die Generatorregelung, die im _______ integriert ist reagier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vom Fahrzeughersteller  definierte Ladezustand erreicht, wird di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_______ herabgesetzt und das _________ am Motor sink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wird Kraftstoff gespa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Soll-Ladezustand nicht erreicht  und es herrscht keine Bremsphas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nn wird die Ladespannung auf einen Mittelwert von ____V  gerege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eine Bremsphase vorhanden, dann wird verstärkt mit ____V geladen</a:t>
            </a:r>
            <a:r>
              <a:rPr b="1" lang="de-DE" sz="18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Datum: 06.05.2011                                                    2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Vielen Dank für Ihre Aufmerksamke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19630d"/>
                </a:solidFill>
                <a:latin typeface="Arial"/>
              </a:rPr>
              <a:t>Quellenangab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www.bos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wikipedia.org/wiki/Rekuperationsbre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varta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wikipedia.org/wiki/Bleiakkum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19630d"/>
                </a:solidFill>
                <a:latin typeface="Arial"/>
              </a:rPr>
              <a:t>Europa Fachkunde Buch 28te Auf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941400"/>
            <a:ext cx="9070920" cy="7262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 Der Widerstand                             16. Das Batterie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. Film Varta AG                                17. Der Batteriesensor/ Steuer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 Bestandteile eines                         18. Schaltplan des B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perations- systems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 Vernetzung des Systems             19. Batterie mit AGM-Technolo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 CAN-Datenbus                              20. Intelligente Generatorregelu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762120"/>
            <a:ext cx="9070920" cy="801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. IGR Übersicht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2. Laderegelung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. Multifunktionsregler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Zusammenfassung als Lücke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5. Ende der Präsentation und die Quellenangaben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70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Datum: 06.05.2011                                             1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Emission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2600"/>
            <a:ext cx="907092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elle:focus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 2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1387080"/>
            <a:ext cx="9070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in Kfz hat einen nur sehr geringen Wirkungsgr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thermische Wirkungsgrad ei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Otto-Motors liegt bei nur ca. 3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er Wirkungsgrad wird im Anschlu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ann nochmals durch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Reibungsverluste gemind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spricht hier v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m mechanischen Wirkungsgr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hohen Verluste haben ein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ohen, unnöt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Kraftstoffverbrauch zur Folge!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3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Lösungsansatz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42040" y="1768320"/>
            <a:ext cx="4046400" cy="498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79640"/>
            <a:ext cx="51912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verringert die Widerstä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m Kfz, indem man die  Zeit w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ie auftreten verkür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zw. entfallen lä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 soll beim                  elektrischen Widerstand  im Generator gescheh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58680"/>
            <a:ext cx="9071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Ide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19640" y="1800360"/>
            <a:ext cx="45007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219640" y="4140360"/>
            <a:ext cx="4500720" cy="287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3280" y="1714320"/>
            <a:ext cx="453528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Generator und die Kühlmittelpumpe eines Kfz werden angetrieben, sobald der Motor läu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beiden Aggregate laufen ununterbrochen m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wäre sinnvoll die Pumpe und den Generator nur an der Bewegungsenergie des Motors teilnehmen zulas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enn sie denn auch benötigt wer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Datum: 06.05.2011                                         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Rekuperation beim Kf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Es handelt sich um ein System bei einem Kfz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elches in der Lage ist, anhand von aufgenommenen Eingangsgrößen eine Regelung vorzuneh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iese Regelung bezieht sich auf die Verzögerungsphasen des Fahrzeu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und kann die „Bremsung“ nutzen, um Energ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in Form von elektrischen Strom zurückzugewinnen.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0720" y="4699080"/>
            <a:ext cx="8739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6:54:57Z</dcterms:created>
  <dc:creator/>
  <dc:description>Präsentationshintergrund Vorlage</dc:description>
  <dc:language>en-US</dc:language>
  <cp:lastModifiedBy>Mark</cp:lastModifiedBy>
  <dcterms:modified xsi:type="dcterms:W3CDTF">2011-05-05T13:32:56Z</dcterms:modified>
  <cp:revision>103</cp:revision>
  <dc:subject/>
  <dc:title>Blau und Grau</dc:title>
</cp:coreProperties>
</file>